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81494"/>
        <c:axId val="27635073"/>
      </c:barChart>
      <c:catAx>
        <c:axId val="24381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35073"/>
        <c:crosses val="autoZero"/>
        <c:auto val="1"/>
        <c:lblAlgn val="ctr"/>
        <c:lblOffset val="100"/>
        <c:noMultiLvlLbl val="0"/>
      </c:catAx>
      <c:valAx>
        <c:axId val="27635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81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CBE-0E6B-405C-AEAE-518562E4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5BC-DF47-40F9-87D4-CE7BC518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8CE-0E91-40FD-AC74-FCC9D82D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590-AD04-4213-BFF1-3E639CA2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1C0-AA93-4D55-82C3-DC772B9B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6D6-27C6-4475-B8A4-41906F18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7B2-4902-406F-899E-1247F5FD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5E0-E67E-4F0A-8614-6A8AFB17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494-DC74-4761-BE6B-99900A41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8D0-C0C2-4EAF-B786-E62A42ED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921-C801-46B2-9996-9C9BD909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792-D35B-46E5-AB38-897F2F1B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7A365-08E9-46CB-BCB1-54E14A0A5B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