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4403481"/>
        <c:axId val="89172473"/>
      </c:barChart>
      <c:catAx>
        <c:axId val="7440348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172473"/>
        <c:crosses val="autoZero"/>
        <c:auto val="1"/>
        <c:lblAlgn val="ctr"/>
        <c:lblOffset val="100"/>
        <c:noMultiLvlLbl val="0"/>
      </c:catAx>
      <c:valAx>
        <c:axId val="8917247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40348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828F-8094-4B1C-AE45-C41C2C052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2B98-D3EF-4046-9EEE-2F0631C7A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933C-2E09-44D5-A7D3-42DF6F07B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1F76-351E-4D4B-9812-B80D08BE2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2025-E530-48F8-B3AF-32CF9ACB5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418C-F5BB-4F29-8EBC-AA973C058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513F-B0C5-4F2C-82DE-628D1CD86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8D57-C11A-4C31-9D38-23AF9EB2E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D945-9FD8-4994-B783-525AE2116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F87B-0A7C-4208-9A23-F259E5D6E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E377-46A5-41CA-A8E8-3DAD00D2F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DD92-04C9-44BD-A251-A74E8AB60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35264F-A737-478B-A2F8-F2A7F5D7EE7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