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86307"/>
        <c:axId val="45078902"/>
      </c:barChart>
      <c:catAx>
        <c:axId val="35786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78902"/>
        <c:crosses val="autoZero"/>
        <c:auto val="1"/>
        <c:lblAlgn val="ctr"/>
        <c:lblOffset val="100"/>
        <c:noMultiLvlLbl val="0"/>
      </c:catAx>
      <c:valAx>
        <c:axId val="45078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86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95E-097D-4A0E-98A4-1889B434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7E0-5715-4CC4-AD3A-B371BAA8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476-F4F8-4801-BE1B-AB823438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3EED-04F2-4E10-8F47-36394A35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65F-9D49-454E-AAF1-D3DADA05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9F2-F6BF-4DF0-9938-A5E9F06B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B25E-EFD7-44B6-A04C-96C8E405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CCF-7D3F-4608-93AE-EB32FE17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B21-6404-4194-B347-B40569ED4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E32-5DB2-46E2-B811-D767BBC7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4B3-CA2F-43D7-83D5-782925E9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99D5-FFD6-4BFD-8B82-91C11706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C9E8E-5E0F-442A-B0B8-8E4A4D1F96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