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55259"/>
        <c:axId val="84686960"/>
      </c:barChart>
      <c:catAx>
        <c:axId val="937552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86960"/>
        <c:crosses val="autoZero"/>
        <c:auto val="1"/>
        <c:lblAlgn val="ctr"/>
        <c:lblOffset val="100"/>
        <c:noMultiLvlLbl val="0"/>
      </c:catAx>
      <c:valAx>
        <c:axId val="84686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552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A39E-7C50-4D9A-94B0-71CDEA19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441-9DF1-470E-A373-1DDC5EF2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195C-C865-4794-B008-044927F60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5B67-2463-4CE7-AC21-53A90D7CE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0BE5-F2A2-4828-990A-DE04F539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F779-72F4-45E7-88CF-D7F049018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14A-4CBC-4279-86B2-A2019DA6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09E-2496-4611-92F1-881E2A3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012-D42D-4F7A-BAF8-C2D7C003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642-D7EB-4858-A892-6BE1511C7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E767-1D03-463C-9B71-580ECC63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2AB3-FF9D-4842-85C7-962F2A6D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8C87F-D4E7-4674-AA9E-1F2E2E8954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