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70880"/>
        <c:axId val="15916070"/>
      </c:barChart>
      <c:catAx>
        <c:axId val="17370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16070"/>
        <c:crosses val="autoZero"/>
        <c:auto val="1"/>
        <c:lblAlgn val="ctr"/>
        <c:lblOffset val="100"/>
        <c:noMultiLvlLbl val="0"/>
      </c:catAx>
      <c:valAx>
        <c:axId val="15916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70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473-01EC-4967-8371-4E7BA565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B81-9B1C-464F-B04A-BA76E9A2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1FD-0365-444D-B697-29CA45E0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DB4-D192-45E6-9D7C-A973E76B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7B9-C771-4C6A-80F0-BA8F3A8C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0B5-742C-444F-BCF5-FE2DB413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394-95E7-4858-A28E-0756CDA6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11E-725E-4E1D-931F-9759D2A7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864-D179-4E1F-87AC-809625CE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CED-6FCE-4262-AF3F-DF92294E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35A-0FDD-4D29-B2CE-89184DF9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574-00C4-4BF0-93E3-6531620D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30F1B-60D9-4A81-9FFA-056BB895A3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