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02397"/>
        <c:axId val="39530556"/>
      </c:barChart>
      <c:catAx>
        <c:axId val="78302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0556"/>
        <c:crosses val="autoZero"/>
        <c:auto val="1"/>
        <c:lblAlgn val="ctr"/>
        <c:lblOffset val="100"/>
        <c:noMultiLvlLbl val="0"/>
      </c:catAx>
      <c:valAx>
        <c:axId val="39530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02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5AD-5D32-45DC-8129-849131FF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010-5C95-46AE-BB68-BB31BE8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621-856E-4ED8-A896-BBF3CD67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76B-DE6E-4CDE-A878-2B7DFB2E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95C-FF32-4032-BEB6-18E7AE1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7BC-E684-414F-AF38-88CE7E7E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941-86A4-4E12-B752-C56E09A0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0D2-D994-4C65-8EF9-C1381B39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D84-B76F-40B4-84AF-AFD983A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630-2838-41A8-946E-29171A8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2AF-252E-4EDF-9E44-0114FB9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CDF-DB6B-44D0-AE39-AE6763D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4F5DE-5E96-4E07-A9AE-81ECC7B3A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