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07654"/>
        <c:axId val="36590942"/>
      </c:barChart>
      <c:catAx>
        <c:axId val="39607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0942"/>
        <c:crosses val="autoZero"/>
        <c:auto val="1"/>
        <c:lblAlgn val="ctr"/>
        <c:lblOffset val="100"/>
        <c:noMultiLvlLbl val="0"/>
      </c:catAx>
      <c:valAx>
        <c:axId val="365909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07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62A-FA66-47E7-9B60-47090C65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E4A3-F56C-4694-818E-F6318FAC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E62-8FF0-43F1-A2F3-44DB705E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ACC4-BF9B-4E65-8C6E-B5E81328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BED-1479-40AF-9DA7-84D8151D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9757-64EB-4088-BE25-EBAC9951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6FC-CB23-4EDC-933D-83083FF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0C33-5B35-4233-A08E-8F1F295C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803-8CE3-43AE-B068-9141A5B0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BD9D-49BA-4BBF-B820-AAC1B8F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EBBB-7052-4750-91AC-CE9F91D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713-374B-428D-B792-EBDAF4B7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2154-3987-4726-B73C-5991A95B0C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