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542772"/>
        <c:axId val="79538094"/>
      </c:barChart>
      <c:catAx>
        <c:axId val="135427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38094"/>
        <c:crosses val="autoZero"/>
        <c:auto val="1"/>
        <c:lblAlgn val="ctr"/>
        <c:lblOffset val="100"/>
        <c:noMultiLvlLbl val="0"/>
      </c:catAx>
      <c:valAx>
        <c:axId val="79538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427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3831-C5D8-4F4B-B5EF-4B304B5E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AA67-9271-4633-8E61-35DD4B12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96A-561A-4EA1-827B-70E506E8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A3BC-7ACD-4F57-A6F6-728049A6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7F4-6AFC-49A4-9C5D-CCC88AD5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53F1-594A-4AE5-9388-858FF794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2410-526C-4940-8971-A4478166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933-97F5-4120-8CCB-C655AE02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FB23-BFF0-475A-A66C-8C16FB95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1404-1077-447B-85E8-52A663AE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6FCA-BF4B-415E-B2E9-0045FD3D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539-43D4-42CC-B824-2BDA8E98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CEA0A-D056-46D6-922D-690D8A69C6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