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07294"/>
        <c:axId val="24042060"/>
      </c:barChart>
      <c:catAx>
        <c:axId val="631072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42060"/>
        <c:crosses val="autoZero"/>
        <c:auto val="1"/>
        <c:lblAlgn val="ctr"/>
        <c:lblOffset val="100"/>
        <c:noMultiLvlLbl val="0"/>
      </c:catAx>
      <c:valAx>
        <c:axId val="24042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072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7CE8-18D0-4D2A-8764-67980BCB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B84-9613-491D-8788-1DFA770D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204B-9C66-4BA3-803D-E01B6E5FB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C2C-1128-494C-84D9-7E0140F0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A57-F65E-4408-A1F6-55289F149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78A-C4C1-4BFB-A5BB-C4069CC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6C2F-B216-427A-81B5-31BE8073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7B28-69C7-41DA-8E8C-CBD0CF9D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EEF9-2334-416D-AF46-AF6053821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87E4-FD08-4553-B1EA-3F0DF87C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8C4-A5D8-486E-85D3-1003D64B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921B-AD4F-4B45-A032-8F8B2020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6618D-D963-4E4C-9AA6-9D7F7C5F71B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