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108967"/>
        <c:axId val="467709"/>
      </c:barChart>
      <c:catAx>
        <c:axId val="821089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709"/>
        <c:crosses val="autoZero"/>
        <c:auto val="1"/>
        <c:lblAlgn val="ctr"/>
        <c:lblOffset val="100"/>
        <c:noMultiLvlLbl val="0"/>
      </c:catAx>
      <c:valAx>
        <c:axId val="4677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089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CB40-1837-4523-8E63-BAFF8037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C6FD-A6C6-4551-B466-559D09B0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64A3-82BA-4EA3-BFEA-B1CE5CEE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5972-0550-4FF6-88A9-56B1704FF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A2CC-F0D2-4F0E-8AE9-A7D5F879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E06B-9E2E-4CFD-831C-3FE05B41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DE1D-E394-4EDB-B7D7-0A7C9236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88CE-8D6A-4E85-87EE-0F5A3FD0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1ED2-BA1C-461D-9D50-30920537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83E9-99B0-4156-85FC-C87EF4F8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8AFB-BFC7-4B9B-91BB-1FAFBD10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04F-FE8B-497C-B059-FCAD1E0E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1A9ED-50EC-4B48-9861-1F9CB0E0BA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