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22516"/>
        <c:axId val="84894886"/>
      </c:barChart>
      <c:catAx>
        <c:axId val="78422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94886"/>
        <c:crosses val="autoZero"/>
        <c:auto val="1"/>
        <c:lblAlgn val="ctr"/>
        <c:lblOffset val="100"/>
        <c:noMultiLvlLbl val="0"/>
      </c:catAx>
      <c:valAx>
        <c:axId val="84894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22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29D-9203-44E5-A17B-C70AA0C7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BB2-FA3F-4B6C-A090-EFA50333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2ED-D5B1-4C5A-843D-21514BB5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8C5-0B9D-4BFF-946C-09625CEF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20E-F7AF-47CB-950C-6AF9B5AD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A47-659D-43E0-9599-F65095F7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8E7-F14B-410C-86A4-B1AF1797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B36-E2D6-4F6A-93CB-9F6FDA64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FCF-D35A-410A-AE71-9B56684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F65-8237-423C-AD4C-EF20F93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A83-536C-45E7-88A4-9F9B1E3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F9C-4A1E-4906-B750-5F4A7634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13B51-3B7B-4008-B6D1-C6D6579343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