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93553"/>
        <c:axId val="86605695"/>
      </c:barChart>
      <c:catAx>
        <c:axId val="60393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05695"/>
        <c:crosses val="autoZero"/>
        <c:auto val="1"/>
        <c:lblAlgn val="ctr"/>
        <c:lblOffset val="100"/>
        <c:noMultiLvlLbl val="0"/>
      </c:catAx>
      <c:valAx>
        <c:axId val="86605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3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AD3-C47C-47B5-B5A8-F6116EC1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7BE-72F3-4FAC-9993-6F6D97C1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6DA-15FE-41CE-9ABA-87ADE6DD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12A-A855-4560-B5A1-2D7CB36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3FD-F761-4293-986A-FAE2105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C1F-9059-48CC-AA0A-4261E595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C5B-F88E-4BFF-B7EE-E2606A4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FBB-8797-4813-B97D-1BF235C5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9C4-5481-4020-8540-90BE92F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4B0-EE38-425B-BCB3-B1B15AD1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1A6-B2D0-4206-B27C-8CAD0C8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9D2-1AFF-4373-AE9C-13C2CB7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C7B23-1843-4583-B30F-F47A5E2B8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