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2502"/>
        <c:axId val="54192529"/>
      </c:barChart>
      <c:catAx>
        <c:axId val="7912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92529"/>
        <c:crosses val="autoZero"/>
        <c:auto val="1"/>
        <c:lblAlgn val="ctr"/>
        <c:lblOffset val="100"/>
        <c:noMultiLvlLbl val="0"/>
      </c:catAx>
      <c:valAx>
        <c:axId val="541925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2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9C1-CA7B-4149-A6C9-0A34624C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280-94AE-4356-9AA0-A8AA0FFC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1231-4403-478C-8D58-1AAE91B6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D10C-D8A0-4B72-89D6-1D8CAA7C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265-8DFE-49D4-A6BD-529FE528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79F-0BD1-41CE-89D8-D9A95E1D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4CC-F171-4A45-BF2E-BC98831B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674-9D18-430F-AD59-8BFE4D9D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B79C-4129-4D9A-8F0D-7E60C507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383-8DA3-4A39-BCA9-3083EF52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6B1-2194-4CA1-B9F8-9B63EC1B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D9C-F4BB-4AB7-98FB-220B84A7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8140B-FB30-4027-B6CB-00BD16128E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