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01341"/>
        <c:axId val="30254090"/>
      </c:barChart>
      <c:catAx>
        <c:axId val="85401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54090"/>
        <c:crosses val="autoZero"/>
        <c:auto val="1"/>
        <c:lblAlgn val="ctr"/>
        <c:lblOffset val="100"/>
        <c:noMultiLvlLbl val="0"/>
      </c:catAx>
      <c:valAx>
        <c:axId val="30254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01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A31-F8BF-4219-89B5-38515532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CB7-7440-4FAF-AD38-B7B24418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5BD-FD19-429D-B50F-82065382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866-2070-4071-A4DE-E5A3B562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2CD-6D94-45FD-9BBC-DAA5C922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7BB-758C-4581-A684-91DAB570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77A-AEB2-4CF6-8A00-91AA79A3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EE6-5994-43D2-982F-13EE8123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05F-2398-4319-899D-072837B6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523-8FCF-4F54-87DF-0D82C7D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5D7-FD83-4A50-8B0A-7005251D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AAF-7AD9-499E-89F4-2DB2A501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FA586-980A-4F07-951E-6E9BE647D8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