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74022"/>
        <c:axId val="89918810"/>
      </c:barChart>
      <c:catAx>
        <c:axId val="49074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18810"/>
        <c:crosses val="autoZero"/>
        <c:auto val="1"/>
        <c:lblAlgn val="ctr"/>
        <c:lblOffset val="100"/>
        <c:noMultiLvlLbl val="0"/>
      </c:catAx>
      <c:valAx>
        <c:axId val="89918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74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2D9-A384-4D29-A39F-7A93351C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911-3C59-4956-BA80-67100A84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088-EA49-4FC8-AE44-224EF80F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7AC-31E1-4950-B2C8-07107DE9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EA2-379A-4BBF-BBDD-0F3266C0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B12-24E9-40AE-9545-BAB62243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2F5-39DB-4C18-A866-40524A35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A9E-905F-4E37-85C4-63818D69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170-20D0-4EFF-B883-4AA409F0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457-0CBF-45C4-9625-D81B2EFF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482-45A0-447D-96AC-1E213DC2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02E-C7A5-4403-B377-EF6E628C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A9E99-D8A1-4022-92DF-15534FE9A4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