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15351"/>
        <c:axId val="89224690"/>
      </c:barChart>
      <c:catAx>
        <c:axId val="29415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24690"/>
        <c:crosses val="autoZero"/>
        <c:auto val="1"/>
        <c:lblAlgn val="ctr"/>
        <c:lblOffset val="100"/>
        <c:noMultiLvlLbl val="0"/>
      </c:catAx>
      <c:valAx>
        <c:axId val="89224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15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5B3-6E9C-4CC4-A270-0B45A136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DD5-2EC1-4016-AE25-950402B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8AB-024B-462D-8AAC-EC7AB2F8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3F3-9CB8-468E-B9AA-4A50F551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B81-064F-4768-B747-F628B14F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CA0-C763-480D-A850-44021298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A07-2A16-4FF6-991B-179971BA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2CF-1C52-4172-B49B-9663EE6A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95D-57B5-4CAD-A48F-EA707175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7E1-ED5C-4B76-A6BA-F265014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8FC-9345-4BCD-997E-3A683A7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233-1D43-42AE-86F1-7AB72B33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0427C-21B5-407C-8816-AFBAAEA913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