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289251"/>
        <c:axId val="30579800"/>
      </c:barChart>
      <c:catAx>
        <c:axId val="21289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9800"/>
        <c:crosses val="autoZero"/>
        <c:auto val="1"/>
        <c:lblAlgn val="ctr"/>
        <c:lblOffset val="100"/>
        <c:noMultiLvlLbl val="0"/>
      </c:catAx>
      <c:valAx>
        <c:axId val="30579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89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27F-C0D6-4BBE-A9C6-BF86C8BE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1AA-574D-4C57-9F6B-999383A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FDA-B17E-4256-914A-80E49A9A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A68-6CC4-4537-A897-020CE937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C80-3B02-4AC8-89B1-7A5E377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A65-B2BC-4969-8FDF-678B39E9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C1B-D064-4573-B7DB-28B7B6E3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8B7-0B87-4E52-93D9-1ABEFA6A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E6D-8532-4AB1-BFD4-057157B8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F42-F9A2-4F1E-9D44-1A6987B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1B8-5073-45E7-9B1D-D0FE168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BAA-92D3-4E9D-9EAD-AE2B5DF7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51E8F-BF52-450A-B877-AB0E90A426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